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989-55D7-40FE-BB07-73B6E88B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79F-F5C3-4911-928D-AB0C4F7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6CB-F958-453E-9D43-D7B40C4B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C17-1596-4984-8CEB-BE1308D5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34F-B431-4B49-97A3-F996A49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DF9-22EA-4032-AE7C-40ECE4E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CEE-C36A-4B2F-93A7-ADB1CBF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1AD-9DB6-45AD-B973-641906A7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C6A-DD62-40D8-A96A-CBC526EC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903-818E-4516-AC05-1F1A2CF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C16-1936-4C8D-9318-CC5B6C0F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5C9-0736-40D4-978C-37EEC6A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1470-07A0-4257-BDEA-9513293CA56C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zheimermed.com.br/imagens/conceitos%5Cgen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3.bp.blogspot.com/_DB16rCKntqo/Rv_SJXq0fQI/AAAAAAAAEHw/4WpLjFoDqDM/s1600-h/genoma_humano_medium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7680" y="2349360"/>
            <a:ext cx="6848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Forte"/>
              </a:rPr>
              <a:t>Noções Básicas d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Forte"/>
              </a:rPr>
              <a:t>Hereditariedade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ooper Black"/>
              </a:rPr>
              <a:t>Cariótipo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Cooper Black"/>
              </a:rPr>
              <a:t>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Constituído por 22 pares de cromossomas homólogos (</a:t>
            </a:r>
            <a:r>
              <a:rPr b="1" lang="pt-PT" sz="2800" spc="-1" strike="noStrike">
                <a:solidFill>
                  <a:srgbClr val="000000"/>
                </a:solidFill>
                <a:latin typeface="Baskerville Old Face"/>
              </a:rPr>
              <a:t>autossomas</a:t>
            </a: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O par 23 distingue o homem da mulher (</a:t>
            </a:r>
            <a:r>
              <a:rPr b="1" lang="pt-PT" sz="2800" spc="-1" strike="noStrike">
                <a:solidFill>
                  <a:srgbClr val="000000"/>
                </a:solidFill>
                <a:latin typeface="Baskerville Old Face"/>
              </a:rPr>
              <a:t>heterossoma</a:t>
            </a:r>
            <a:r>
              <a:rPr b="0" lang="pt-PT" sz="2800" spc="-1" strike="noStrike">
                <a:solidFill>
                  <a:srgbClr val="000000"/>
                </a:solidFill>
                <a:latin typeface="Baskerville Old Face"/>
              </a:rPr>
              <a:t> ou cromossoma sex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adn"/>
          <p:cNvPicPr/>
          <p:nvPr/>
        </p:nvPicPr>
        <p:blipFill>
          <a:blip r:embed="rId1"/>
          <a:stretch/>
        </p:blipFill>
        <p:spPr>
          <a:xfrm>
            <a:off x="40068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5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Baskerville Old Face"/>
              </a:rPr>
              <a:t>Conceitos importa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GENÓTIPO: é a constituição genética de um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indiví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FENÓTIPO: é o resultado da interacção do genótipo +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influência do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LINHAGEM PURA: quando os indivíduos apresentam 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caracteres em homozig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HOMOZIGOTO: genes alelos iguais, dominantes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        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recessivos "AA ou a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askerville Old Face"/>
              </a:rPr>
              <a:t>HETEROZIGOTOS: genes alelos diferentes 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Dominância completa"/>
          <p:cNvPicPr/>
          <p:nvPr/>
        </p:nvPicPr>
        <p:blipFill>
          <a:blip r:embed="rId2"/>
          <a:stretch/>
        </p:blipFill>
        <p:spPr>
          <a:xfrm>
            <a:off x="6948360" y="2781360"/>
            <a:ext cx="1943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arvore_genealogica1[1]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619280" y="98748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esde sempre, as diferenças e semelhanças entre os organismos suscitaram quest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835280" y="5248440"/>
            <a:ext cx="61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Porque é que os membros de uma espécie 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niformes quanto a determinadas característic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foto"/>
          <p:cNvPicPr/>
          <p:nvPr/>
        </p:nvPicPr>
        <p:blipFill>
          <a:blip r:embed="rId1"/>
          <a:stretch/>
        </p:blipFill>
        <p:spPr>
          <a:xfrm>
            <a:off x="2806560" y="2147760"/>
            <a:ext cx="36370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9640" y="227664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Hereditariedade - 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é um ramo da Biologia que estuda os mecanismos de  transmissão dos carateres hereditários</a:t>
            </a:r>
            <a:r>
              <a:rPr b="0" lang="pt-PT" sz="2800" spc="-1" strike="noStrike">
                <a:solidFill>
                  <a:srgbClr val="bbe0e3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928800" y="81000"/>
            <a:ext cx="72928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afafd7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Impact"/>
              </a:rPr>
              <a:t>                            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afafd7"/>
                  </a:gs>
                  <a:gs pos="100000">
                    <a:srgbClr val="33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6491160" y="944640"/>
          <a:ext cx="23050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1160" y="944640"/>
                    <a:ext cx="2305080" cy="1239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324000" y="476280"/>
            <a:ext cx="6010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s elementos que permitem descrever um ser vivo designam-se por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caratere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Cada indivíduo possui um conjunto de carateres que herdou dos seus pais e que se designam por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carateres hereditários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xistem carateres observáveis (1) e não observáveis(2).Ex: cor dos olhos (1), tipo de sangue (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920" y="246060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 transmissão das características hereditárias é um mecanismo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(para todas as formas de vid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1523880" y="3075120"/>
            <a:ext cx="3624480" cy="2244600"/>
            <a:chOff x="1523880" y="3075120"/>
            <a:chExt cx="3624480" cy="2244600"/>
          </a:xfrm>
        </p:grpSpPr>
        <p:graphicFrame>
          <p:nvGraphicFramePr>
            <p:cNvPr id="52" name="Object 9"/>
            <p:cNvGraphicFramePr/>
            <p:nvPr/>
          </p:nvGraphicFramePr>
          <p:xfrm>
            <a:off x="1523880" y="3075120"/>
            <a:ext cx="3624480" cy="114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3075120"/>
                      <a:ext cx="3624480" cy="1141200"/>
                    </a:xfrm>
                    <a:prstGeom prst="rect">
                      <a:avLst/>
                    </a:prstGeom>
                    <a:ln w="381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" name="Object 10"/>
            <p:cNvGraphicFramePr/>
            <p:nvPr/>
          </p:nvGraphicFramePr>
          <p:xfrm>
            <a:off x="1523880" y="4219920"/>
            <a:ext cx="3624480" cy="109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3880" y="4219920"/>
                      <a:ext cx="3624480" cy="1099800"/>
                    </a:xfrm>
                    <a:prstGeom prst="rect">
                      <a:avLst/>
                    </a:prstGeom>
                    <a:ln w="381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56" name="Text Box 11"/>
          <p:cNvSpPr/>
          <p:nvPr/>
        </p:nvSpPr>
        <p:spPr>
          <a:xfrm>
            <a:off x="385920" y="56404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s características que os indivíduos manifestam dependem do material genético existente no </a:t>
            </a:r>
            <a:r>
              <a:rPr b="1" lang="pt-PT" sz="1600" spc="-1" strike="noStrike" u="sng">
                <a:solidFill>
                  <a:srgbClr val="333399"/>
                </a:solidFill>
                <a:uFillTx/>
                <a:latin typeface="Arial"/>
              </a:rPr>
              <a:t>núcleo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das suas célu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9"/>
          <p:cNvSpPr/>
          <p:nvPr/>
        </p:nvSpPr>
        <p:spPr>
          <a:xfrm>
            <a:off x="6084720" y="350028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existem caraterísticas que são próprias de uma espécie e outras que são individuais, o que torna cada indivíduo único e diferente de todos os out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onceitos%5C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0066"/>
                </a:solidFill>
                <a:latin typeface="Baskerville Old Face"/>
              </a:rPr>
              <a:t>No DNA que constitui os cromossomas que estão no núcleo das célul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404640"/>
            <a:ext cx="8229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Baskerville Old Face"/>
              </a:rPr>
              <a:t>Onde se localiza a informação gené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95280" y="476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31280" y="397980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entury Schoolbook"/>
              </a:rPr>
              <a:t>O que é o </a:t>
            </a:r>
            <a:r>
              <a:rPr b="1" lang="pt-PT" sz="2400" spc="-1" strike="noStrike">
                <a:solidFill>
                  <a:srgbClr val="800000"/>
                </a:solidFill>
                <a:latin typeface="Century Schoolbook"/>
              </a:rPr>
              <a:t>DNA</a:t>
            </a:r>
            <a:r>
              <a:rPr b="1" lang="pt-PT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000080" y="4500720"/>
            <a:ext cx="7715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Molécula onde se encontra a informação gené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Molécula através da qual o núcleo controla o funcionamento da célu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uas cadeias de nucleóti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Dupla hé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dnastructur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11280" y="692280"/>
            <a:ext cx="3456000" cy="238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naextracted3"/>
          <p:cNvPicPr/>
          <p:nvPr/>
        </p:nvPicPr>
        <p:blipFill>
          <a:blip r:embed="rId2"/>
          <a:stretch/>
        </p:blipFill>
        <p:spPr>
          <a:xfrm>
            <a:off x="6540480" y="747720"/>
            <a:ext cx="1631880" cy="2176560"/>
          </a:xfrm>
          <a:prstGeom prst="rect">
            <a:avLst/>
          </a:prstGeom>
          <a:ln w="0">
            <a:noFill/>
          </a:ln>
        </p:spPr>
      </p:pic>
      <p:sp>
        <p:nvSpPr>
          <p:cNvPr id="66" name="Line 12"/>
          <p:cNvSpPr/>
          <p:nvPr/>
        </p:nvSpPr>
        <p:spPr>
          <a:xfrm flipH="1" flipV="1">
            <a:off x="4138560" y="1989000"/>
            <a:ext cx="288144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495480" y="290196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entury Schoolbook"/>
              </a:rPr>
              <a:t>DNA condens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256400" y="30528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entury Schoolbook"/>
              </a:rPr>
              <a:t>Molécula de 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044720" y="3684600"/>
            <a:ext cx="74563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800000"/>
                </a:solidFill>
                <a:latin typeface="Century Schoolbook"/>
              </a:rPr>
              <a:t>Nucleótido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– molécula (unidade básica do ADN) constituí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m açúcar – desoxirrib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grupo fosf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uma das seguintes bases azotadas: Timina (T), Adenina (A), Citosina (C) e Guanina (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nucleotide"/>
          <p:cNvPicPr/>
          <p:nvPr/>
        </p:nvPicPr>
        <p:blipFill>
          <a:blip r:embed="rId1"/>
          <a:stretch/>
        </p:blipFill>
        <p:spPr>
          <a:xfrm>
            <a:off x="5435640" y="620640"/>
            <a:ext cx="3024000" cy="26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" name="Group 12"/>
          <p:cNvGrpSpPr/>
          <p:nvPr/>
        </p:nvGrpSpPr>
        <p:grpSpPr>
          <a:xfrm>
            <a:off x="1042920" y="549360"/>
            <a:ext cx="2035080" cy="2950920"/>
            <a:chOff x="1042920" y="549360"/>
            <a:chExt cx="2035080" cy="2950920"/>
          </a:xfrm>
        </p:grpSpPr>
        <p:pic>
          <p:nvPicPr>
            <p:cNvPr id="72" name="Picture 10" descr="Imagem1"/>
            <p:cNvPicPr/>
            <p:nvPr/>
          </p:nvPicPr>
          <p:blipFill>
            <a:blip r:embed="rId2"/>
            <a:stretch/>
          </p:blipFill>
          <p:spPr>
            <a:xfrm>
              <a:off x="1042920" y="549360"/>
              <a:ext cx="2035080" cy="29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Oval 11"/>
            <p:cNvSpPr/>
            <p:nvPr/>
          </p:nvSpPr>
          <p:spPr>
            <a:xfrm>
              <a:off x="1564920" y="1773360"/>
              <a:ext cx="647280" cy="64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3"/>
          <p:cNvSpPr/>
          <p:nvPr/>
        </p:nvSpPr>
        <p:spPr>
          <a:xfrm flipV="1">
            <a:off x="1835280" y="620640"/>
            <a:ext cx="3600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908000" y="2421000"/>
            <a:ext cx="352764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Baskerville Old Face"/>
              </a:rPr>
              <a:t>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610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…</a:t>
            </a: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é um segmento de DNA e determina uma caracterís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NA Genes"/>
          <p:cNvPicPr/>
          <p:nvPr/>
        </p:nvPicPr>
        <p:blipFill>
          <a:blip r:embed="rId1"/>
          <a:stretch/>
        </p:blipFill>
        <p:spPr>
          <a:xfrm>
            <a:off x="4356000" y="549360"/>
            <a:ext cx="457848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611280" y="3429000"/>
            <a:ext cx="3609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…</a:t>
            </a:r>
            <a:r>
              <a:rPr b="0" lang="pt-PT" sz="3200" spc="-1" strike="noStrike">
                <a:solidFill>
                  <a:srgbClr val="000000"/>
                </a:solidFill>
                <a:latin typeface="Baskerville Old Face"/>
              </a:rPr>
              <a:t>os pares de cromossomas possuem o gene para a mesma característica nos dois cromoss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ooper Black"/>
              </a:rPr>
              <a:t>Genoma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3898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conjunto de todos os gen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genoma_humano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5211720" y="2781360"/>
            <a:ext cx="352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nes alelo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codificam uma informação para a mesm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ex: cor dos olh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1"/>
          <p:cNvSpPr/>
          <p:nvPr/>
        </p:nvSpPr>
        <p:spPr>
          <a:xfrm>
            <a:off x="5192640" y="4292640"/>
            <a:ext cx="34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s cromossomas de cada par apresentam um conjunto de genes para as mesmas caraterísticas  - 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cromossomas homólo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8:46:50Z</dcterms:created>
  <dc:creator>Angélica Sousa</dc:creator>
  <dc:description/>
  <dc:language>en-US</dc:language>
  <cp:lastModifiedBy>teresacoutinho</cp:lastModifiedBy>
  <dcterms:modified xsi:type="dcterms:W3CDTF">2012-07-02T13:16:49Z</dcterms:modified>
  <cp:revision>54</cp:revision>
  <dc:subject/>
  <dc:title>Diapositivo 1</dc:title>
</cp:coreProperties>
</file>